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3F4F-EEC2-4AB4-83B8-880ABE1AF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vious cases, it is only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rulers, not any of their particular qualities, that makes them superior forms of government; not s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C58-EF41-4231-9AEA-ADC93472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3A2-31D0-4667-8E22-15558BF1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043-A22A-41AE-86B6-858852AD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6AA-1BF2-4C60-8405-989DEA90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BC5-2F26-4F96-B3EA-D02FC147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8F8-42F1-42D7-B1BE-4C503783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D4F-3E13-466D-BCEA-BE331E84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6DB-2164-4296-A182-82E89713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E9F-EEDE-4923-B3E0-DF37E348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9E5-2331-4073-B2A9-EDAFF595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FCE-DE03-4349-989D-B3F71884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AB6-18E3-4FF1-B3A5-21854AD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9EC9-74DC-4084-B94E-A0641E64B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2714400" cy="33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ll and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2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uties of citizens in representative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izen needs to be able and willing to use the vote for more than their private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informed citizens who have an interest in the public good, i.e., who can think beyond their narrow self-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his does not happen, representative politics devolves into mere factionalism and ultimately into despo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re other forms of government b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people are too independent and insubordinate (early stage of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despo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people are too passive and oppressed (later stage of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ist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re other forms of government b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people’s moral horizons are too narrow and parochial (early stages of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ist, centralizing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no coherent people (early stages of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ist, centralizing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re other forms of government b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people has a generally low level of culture, is greatly ignorant, or has a “defective” national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by foreigners or through the happy accident of a monarch of gen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 part of the population is much better than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archy with some representative but weak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urpose of polit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eval Christian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ave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b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 and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hould be free to choose whenever one’s choices do not directly harm others: liberty is primarily the ability to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y as choice (Mill, Hobbes) is different from liberty as independence (Roussea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 suggests that the point of politics is (ultimately) to maximize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est form of government or political reg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o and Aristo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est form of government or political reg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’s arguments emphasize the instrumental and moral benefits of participation in poli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form of government helps everyo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interests by giving them some power to stand up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help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eryone’s character, giving them more other-regarding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est form of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form of government is representative: i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our form of government good for every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for Fij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for Burma/Myanm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for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onditions for representative government to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ultural conditions might be necessary for representative government to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some conditions, representative government is im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some conditions, some other form of government is better, even if representative government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is representative government imposs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ness of the people to have a representativ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is an iss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ness and ability of the people to do what is necessary for its pre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, the executive will necessarily encroach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ness and ability of the people to fulfill its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8:12:13Z</dcterms:created>
  <dc:creator>Xavier Marquez</dc:creator>
  <dc:description/>
  <dc:language>en-US</dc:language>
  <cp:lastModifiedBy>Full Name</cp:lastModifiedBy>
  <dcterms:modified xsi:type="dcterms:W3CDTF">2008-09-11T22:00:43Z</dcterms:modified>
  <cp:revision>4</cp:revision>
  <dc:subject/>
  <dc:title>Mill and Democracy</dc:title>
</cp:coreProperties>
</file>